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1.pct" ContentType="image/x-pict"/>
  <Override PartName="/ppt/media/image9.pct" ContentType="image/x-pict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0.pct" ContentType="image/x-pict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262-7B6E-433D-B35B-1C6C6570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DB1-5E56-47DD-A739-785222AE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D52-FD76-4D6D-A3C3-28939317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385-C0F6-4D87-BC38-96D61DFC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DCF-5FBD-45E3-AB61-302C2A3D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9A1-A5B3-43EF-8A1A-191045A5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44C4-2E28-45A1-B2F1-7C4B4F3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914-130E-4804-814F-8A53834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72A4-B9B0-456A-983A-09C4035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A85F-0FF7-4F5C-96B2-0D4F95EE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D3E5-D8F1-443D-A22B-EE250A8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708-545B-4412-AE78-09FEF0D7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D57-8F98-4B1B-8D5D-CF9470D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298-5880-466D-8E50-06A5336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0C57-E8BF-42B8-A24E-381DF7B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E112-1CCD-4095-B3A5-B47D4114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981-F339-44FC-B489-6DE7CC0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7F-8CDA-4540-80B7-DD2575F9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BB5-1FAA-43DD-87B0-4F76798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E92-CCA1-445D-8156-92983E9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955-4890-4BE3-8ACB-2B42E04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F1A-F1DE-4005-9C4E-55EDEF2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1C3-DFA0-4304-8FA3-A5651DD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F67-56C7-4182-BF5C-7C4977B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7B0-7012-403D-A2D4-B4352F2468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F8C5-D503-46DF-9219-620760ABCAD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9.pct"/><Relationship Id="rId6" Type="http://schemas.openxmlformats.org/officeDocument/2006/relationships/image" Target="../media/image12.pct"/><Relationship Id="rId7" Type="http://schemas.openxmlformats.org/officeDocument/2006/relationships/image" Target="../media/image13.png"/><Relationship Id="rId8" Type="http://schemas.openxmlformats.org/officeDocument/2006/relationships/image" Target="../media/image15.jpeg"/><Relationship Id="rId9" Type="http://schemas.openxmlformats.org/officeDocument/2006/relationships/image" Target="../media/image21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The Ballad of Mulan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me 1, Story 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y Vocabul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457200" y="1676520"/>
            <a:ext cx="299880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synonyms are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riumphant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Victoriou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_x000c_trophy_c.pct                                                   000650EF_x000c_Macintosh HD                   BE95B27D:"/>
          <p:cNvPicPr/>
          <p:nvPr/>
        </p:nvPicPr>
        <p:blipFill>
          <a:blip r:embed="rId1"/>
          <a:stretch/>
        </p:blipFill>
        <p:spPr>
          <a:xfrm>
            <a:off x="609480" y="1598760"/>
            <a:ext cx="2438640" cy="21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_x000f_cheergirl_c.pct                                                0006501C_x000c_Macintosh HD                   BE95B27D:"/>
          <p:cNvPicPr/>
          <p:nvPr/>
        </p:nvPicPr>
        <p:blipFill>
          <a:blip r:embed="rId2"/>
          <a:stretch/>
        </p:blipFill>
        <p:spPr>
          <a:xfrm>
            <a:off x="4960800" y="1598760"/>
            <a:ext cx="2430720" cy="21715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152280" y="6095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8" name="AutoShape 9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9" name="AutoShape 10">
            <a:hlinkClick r:id="" action="ppaction://hlinkshowjump?jump=firstslide"/>
          </p:cNvPr>
          <p:cNvSpPr/>
          <p:nvPr/>
        </p:nvSpPr>
        <p:spPr>
          <a:xfrm>
            <a:off x="3581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9120" y="1066680"/>
            <a:ext cx="3620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dy covering, often of metal, worn for protection in battl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armo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bid a sad farewell to her father, mother, sister, and brother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_x000b_armor-1.jpg       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338040" y="13716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>
            <a:hlinkClick r:id="rId4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rad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nions who share one’s activitie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comrad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re astonished and amaz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_x000f_girltroop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3962520" y="2776680"/>
            <a:ext cx="331308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4"/>
          <a:stretch/>
        </p:blipFill>
        <p:spPr>
          <a:xfrm>
            <a:off x="5029200" y="609480"/>
            <a:ext cx="2511360" cy="20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5"/>
          <a:stretch/>
        </p:blipFill>
        <p:spPr>
          <a:xfrm>
            <a:off x="3276720" y="4343400"/>
            <a:ext cx="2438280" cy="201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ndure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ut up with or lasted thr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ights at the camp were harsh and cold, but Mulan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endure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every hardship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185256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arewel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armor and bid a sa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farewel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o her father, mother, sister, and br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_x0012_TN_goodbye.GIF.gif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5715000" y="34290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_x000e_cominghome.gif                                                 00063C78_x000c_Macintosh HD                   BE95B27D:"/>
          <p:cNvPicPr/>
          <p:nvPr/>
        </p:nvPicPr>
        <p:blipFill>
          <a:blip r:embed="rId4"/>
          <a:stretch/>
        </p:blipFill>
        <p:spPr>
          <a:xfrm>
            <a:off x="3809880" y="609480"/>
            <a:ext cx="25783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1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2000" y="1598400"/>
            <a:ext cx="3617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ccess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iumphan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victorious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10" descr="_x000c_trophy_c.pct                                                   000650EF_x000c_Macintosh HD                   BE95B27D:"/>
          <p:cNvPicPr/>
          <p:nvPr/>
        </p:nvPicPr>
        <p:blipFill>
          <a:blip r:embed="rId3"/>
          <a:stretch/>
        </p:blipFill>
        <p:spPr>
          <a:xfrm>
            <a:off x="152280" y="1295280"/>
            <a:ext cx="1600200" cy="1425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_x0010_100percent_c.pct                                               000650EF_x000c_Macintosh HD                   BE95B27D:"/>
          <p:cNvPicPr/>
          <p:nvPr/>
        </p:nvPicPr>
        <p:blipFill>
          <a:blip r:embed="rId4"/>
          <a:stretch/>
        </p:blipFill>
        <p:spPr>
          <a:xfrm>
            <a:off x="3200400" y="52005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_x0011_yes-kid-color.gif                                              00063C78_x000c_Macintosh HD                   BE95B27D:"/>
          <p:cNvPicPr/>
          <p:nvPr/>
        </p:nvPicPr>
        <p:blipFill>
          <a:blip r:embed="rId5"/>
          <a:stretch/>
        </p:blipFill>
        <p:spPr>
          <a:xfrm>
            <a:off x="1752480" y="2209680"/>
            <a:ext cx="1492200" cy="3608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oop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ld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mperor is calling fo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oop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15">
            <a:hlinkClick r:id="rId3" action="ppaction://hlinksldjump"/>
          </p:cNvPr>
          <p:cNvSpPr/>
          <p:nvPr/>
        </p:nvSpPr>
        <p:spPr>
          <a:xfrm>
            <a:off x="6629400" y="60958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2621160" cy="2620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3200400" y="358128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ictoriou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ing won by defeating an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triumphant an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victoriou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10" descr="_x000f_cheergirl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117360" y="1676520"/>
            <a:ext cx="247356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_x000e_cheerboy_c.pct                                                 0006501C_x000c_Macintosh HD                   BE95B27D:"/>
          <p:cNvPicPr/>
          <p:nvPr/>
        </p:nvPicPr>
        <p:blipFill>
          <a:blip r:embed="rId4"/>
          <a:stretch/>
        </p:blipFill>
        <p:spPr>
          <a:xfrm>
            <a:off x="1219320" y="3859200"/>
            <a:ext cx="2693880" cy="2160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2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iz Yourself!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320" y="1600200"/>
          <a:ext cx="7696080" cy="41925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809720"/>
              </a:tblGrid>
              <a:tr h="193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rmor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mr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dured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rewell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umphan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oop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ctoriou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nus:  Which two words are </a:t>
                      </a: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synonyms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2" descr="_x000b_armor-1.jpg                                                    00063C78_x000c_Macintosh HD                   BE95B27D: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1676520"/>
            <a:ext cx="121752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0" y="1744560"/>
            <a:ext cx="1523880" cy="122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6"/>
          <a:stretch/>
        </p:blipFill>
        <p:spPr>
          <a:xfrm>
            <a:off x="4267080" y="1752480"/>
            <a:ext cx="127008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_x0012_TN_goodbye.GIF.gif                                             00063C78_x000c_Macintosh HD                   BE95B27D:"/>
          <p:cNvPicPr/>
          <p:nvPr/>
        </p:nvPicPr>
        <p:blipFill>
          <a:blip r:embed="rId7"/>
          <a:stretch/>
        </p:blipFill>
        <p:spPr>
          <a:xfrm>
            <a:off x="6400800" y="1676520"/>
            <a:ext cx="1025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7" descr="_x000c_trophy_c.pct                                                   000650EF_x000c_Macintosh HD                   BE95B27D:"/>
          <p:cNvPicPr/>
          <p:nvPr/>
        </p:nvPicPr>
        <p:blipFill>
          <a:blip r:embed="rId8"/>
          <a:stretch/>
        </p:blipFill>
        <p:spPr>
          <a:xfrm>
            <a:off x="228600" y="36576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_x000e_cheerboy_c.pct                                                 0006501C_x000c_Macintosh HD                   BE95B27D:"/>
          <p:cNvPicPr/>
          <p:nvPr/>
        </p:nvPicPr>
        <p:blipFill>
          <a:blip r:embed="rId9"/>
          <a:stretch/>
        </p:blipFill>
        <p:spPr>
          <a:xfrm>
            <a:off x="4114800" y="3684600"/>
            <a:ext cx="1752480" cy="142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30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1" name="AutoShape 40">
            <a:hlinkClick r:id="" action="ppaction://hlinkshowjump?jump=firstslide"/>
          </p:cNvPr>
          <p:cNvSpPr/>
          <p:nvPr/>
        </p:nvSpPr>
        <p:spPr>
          <a:xfrm>
            <a:off x="1522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42" name="Picture 41" descr=""/>
          <p:cNvPicPr/>
          <p:nvPr/>
        </p:nvPicPr>
        <p:blipFill>
          <a:blip r:embed="rId10"/>
          <a:stretch/>
        </p:blipFill>
        <p:spPr>
          <a:xfrm>
            <a:off x="2209680" y="3657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2:51:38Z</dcterms:created>
  <dc:creator>Tracey Ortiz-Naney</dc:creator>
  <dc:description/>
  <dc:language>en-US</dc:language>
  <cp:lastModifiedBy>AES</cp:lastModifiedBy>
  <dcterms:modified xsi:type="dcterms:W3CDTF">2010-09-13T15:30:38Z</dcterms:modified>
  <cp:revision>26</cp:revision>
  <dc:subject/>
  <dc:title>The Ballad of Mulan vocabulary</dc:title>
</cp:coreProperties>
</file>