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1.pct" ContentType="image/x-pict"/>
  <Override PartName="/ppt/media/image9.pct" ContentType="image/x-pict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0.pct" ContentType="image/x-pict"/>
  <Override PartName="/ppt/media/image1.pct" ContentType="image/x-pict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BB3-AC99-4408-8DDB-0862EF46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705-2D07-450C-B803-EB4B5516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713-4FEB-41B7-A995-3567B9C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5BE-4BA9-4251-9176-6DE585AC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E3E6-A1B4-4D70-B293-1533420A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A483-23E3-4FEF-892E-29F34B46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1C06-B203-455D-994E-9DDEAAEB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28F-26D9-4303-9E15-5E693355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B6BD-B8C5-4130-8640-4B0B2886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AD06-7345-4996-A37F-A4E3EDB3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DC69-DE87-4C06-8E73-8BDE0C4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7B4-4F16-44F6-A4B2-D21F1F28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D9F-4C26-43A5-87A9-7EB43AD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EF2-DF4E-403A-80AB-AED3713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1636-379B-4B8D-98BA-EE9B27E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E0C3-C881-41DD-9FA9-C9260137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63A0-A35C-4D88-B357-B05D9EF8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F22-DB92-4B07-B82D-A531FAA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D6D-44AD-474F-8387-278EBF0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412-C7B3-4612-9495-115D9984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BD3-F915-4C5C-8808-3BB6072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9A0-BFF9-4C2F-A231-DC5A414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095-61C1-4CED-B6FA-767C7F3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52D-B042-41FA-B74E-96FE6F6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7D7-CB59-4D3B-BF00-2B3A31491B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1D0-7A0E-44C5-90D9-36747554E64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image" Target="../media/image9.pct"/><Relationship Id="rId6" Type="http://schemas.openxmlformats.org/officeDocument/2006/relationships/image" Target="../media/image12.pct"/><Relationship Id="rId7" Type="http://schemas.openxmlformats.org/officeDocument/2006/relationships/image" Target="../media/image13.png"/><Relationship Id="rId8" Type="http://schemas.openxmlformats.org/officeDocument/2006/relationships/image" Target="../media/image15.jpeg"/><Relationship Id="rId9" Type="http://schemas.openxmlformats.org/officeDocument/2006/relationships/image" Target="../media/image21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7d47d"/>
                </a:solidFill>
                <a:uFillTx/>
                <a:latin typeface="Arial"/>
              </a:rPr>
              <a:t>The Ballad of Mulan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me 1, Story 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Key Vocabula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4" descr="_x0010_gr3_th1_sel2.jpg                                               00063C78_x000c_Macintosh HD                   BE95B27D:"/>
          <p:cNvPicPr/>
          <p:nvPr/>
        </p:nvPicPr>
        <p:blipFill>
          <a:blip r:embed="rId1"/>
          <a:stretch/>
        </p:blipFill>
        <p:spPr>
          <a:xfrm>
            <a:off x="457200" y="1676520"/>
            <a:ext cx="299880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>
            <a:hlinkClick r:id="rId2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he synonyms are…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riumphant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Victoriou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Picture 6" descr="_x000c_trophy_c.pct                                                   000650EF_x000c_Macintosh HD                   BE95B27D:"/>
          <p:cNvPicPr/>
          <p:nvPr/>
        </p:nvPicPr>
        <p:blipFill>
          <a:blip r:embed="rId1"/>
          <a:stretch/>
        </p:blipFill>
        <p:spPr>
          <a:xfrm>
            <a:off x="609480" y="1598760"/>
            <a:ext cx="2438640" cy="21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_x000f_cheergirl_c.pct                                                0006501C_x000c_Macintosh HD                   BE95B27D:"/>
          <p:cNvPicPr/>
          <p:nvPr/>
        </p:nvPicPr>
        <p:blipFill>
          <a:blip r:embed="rId2"/>
          <a:stretch/>
        </p:blipFill>
        <p:spPr>
          <a:xfrm>
            <a:off x="4960800" y="1598760"/>
            <a:ext cx="2430720" cy="21715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8"/>
          <p:cNvSpPr/>
          <p:nvPr/>
        </p:nvSpPr>
        <p:spPr>
          <a:xfrm>
            <a:off x="152280" y="6095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8" name="AutoShape 9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9" name="AutoShape 10">
            <a:hlinkClick r:id="" action="ppaction://hlinkshowjump?jump=firstslide"/>
          </p:cNvPr>
          <p:cNvSpPr/>
          <p:nvPr/>
        </p:nvSpPr>
        <p:spPr>
          <a:xfrm>
            <a:off x="358128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rmo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29120" y="1066680"/>
            <a:ext cx="3620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dy covering, often of metal, worn for protection in battl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armor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bid a sad farewell to her father, mother, sister, and brother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_x000b_armor-1.jpg       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338040" y="1371600"/>
            <a:ext cx="352764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9">
            <a:hlinkClick r:id="rId4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omrad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anions who share one’s activitie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e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comrades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re astonished and amaz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_x000f_girltroop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3962520" y="2776680"/>
            <a:ext cx="3313080" cy="1414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4"/>
          <a:stretch/>
        </p:blipFill>
        <p:spPr>
          <a:xfrm>
            <a:off x="5029200" y="609480"/>
            <a:ext cx="2511360" cy="202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5"/>
          <a:stretch/>
        </p:blipFill>
        <p:spPr>
          <a:xfrm>
            <a:off x="3276720" y="4343400"/>
            <a:ext cx="2438280" cy="20145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endured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ut up with or lasted throug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ights at the camp were harsh and cold, but Mulan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endure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every hardship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185256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1828800" y="342900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farewell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16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t dawn Mulan dressed in her armor and bid a sa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farewell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to her father, mother, sister, and br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9" descr="_x0012_TN_goodbye.GIF.gif                                             00063C78_x000c_Macintosh HD                   BE95B27D:"/>
          <p:cNvPicPr/>
          <p:nvPr/>
        </p:nvPicPr>
        <p:blipFill>
          <a:blip r:embed="rId3"/>
          <a:stretch/>
        </p:blipFill>
        <p:spPr>
          <a:xfrm>
            <a:off x="5715000" y="342900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_x000e_cominghome.gif                                                 00063C78_x000c_Macintosh HD                   BE95B27D:"/>
          <p:cNvPicPr/>
          <p:nvPr/>
        </p:nvPicPr>
        <p:blipFill>
          <a:blip r:embed="rId4"/>
          <a:stretch/>
        </p:blipFill>
        <p:spPr>
          <a:xfrm>
            <a:off x="3809880" y="609480"/>
            <a:ext cx="25783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1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iumphan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2000" y="1598400"/>
            <a:ext cx="36176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ccess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iumphan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and victorious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10" descr="_x000c_trophy_c.pct                                                   000650EF_x000c_Macintosh HD                   BE95B27D:"/>
          <p:cNvPicPr/>
          <p:nvPr/>
        </p:nvPicPr>
        <p:blipFill>
          <a:blip r:embed="rId3"/>
          <a:stretch/>
        </p:blipFill>
        <p:spPr>
          <a:xfrm>
            <a:off x="152280" y="1295280"/>
            <a:ext cx="1600200" cy="1425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_x0010_100percent_c.pct                                               000650EF_x000c_Macintosh HD                   BE95B27D:"/>
          <p:cNvPicPr/>
          <p:nvPr/>
        </p:nvPicPr>
        <p:blipFill>
          <a:blip r:embed="rId4"/>
          <a:stretch/>
        </p:blipFill>
        <p:spPr>
          <a:xfrm>
            <a:off x="3200400" y="520056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_x0011_yes-kid-color.gif                                              00063C78_x000c_Macintosh HD                   BE95B27D:"/>
          <p:cNvPicPr/>
          <p:nvPr/>
        </p:nvPicPr>
        <p:blipFill>
          <a:blip r:embed="rId5"/>
          <a:stretch/>
        </p:blipFill>
        <p:spPr>
          <a:xfrm>
            <a:off x="1752480" y="2209680"/>
            <a:ext cx="1492200" cy="3608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3">
            <a:hlinkClick r:id="rId6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troop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36165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ldi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mperor is calling for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troop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15">
            <a:hlinkClick r:id="rId3" action="ppaction://hlinksldjump"/>
          </p:cNvPr>
          <p:cNvSpPr/>
          <p:nvPr/>
        </p:nvSpPr>
        <p:spPr>
          <a:xfrm>
            <a:off x="6629400" y="609588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25" name="Picture 17" descr=""/>
          <p:cNvPicPr/>
          <p:nvPr/>
        </p:nvPicPr>
        <p:blipFill>
          <a:blip r:embed="rId4"/>
          <a:stretch/>
        </p:blipFill>
        <p:spPr>
          <a:xfrm>
            <a:off x="4952880" y="1143000"/>
            <a:ext cx="2621160" cy="2620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5"/>
          <a:stretch/>
        </p:blipFill>
        <p:spPr>
          <a:xfrm>
            <a:off x="3200400" y="3581280"/>
            <a:ext cx="2730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victoriou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aving won by defeating ano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fter ten years, she returned as a great general, triumphant and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victoriou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10" descr="_x000f_cheergirl_c.pct                                                0006501C_x000c_Macintosh HD                   BE95B27D:"/>
          <p:cNvPicPr/>
          <p:nvPr/>
        </p:nvPicPr>
        <p:blipFill>
          <a:blip r:embed="rId3"/>
          <a:stretch/>
        </p:blipFill>
        <p:spPr>
          <a:xfrm>
            <a:off x="117360" y="1676520"/>
            <a:ext cx="247356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_x000e_cheerboy_c.pct                                                 0006501C_x000c_Macintosh HD                   BE95B27D:"/>
          <p:cNvPicPr/>
          <p:nvPr/>
        </p:nvPicPr>
        <p:blipFill>
          <a:blip r:embed="rId4"/>
          <a:stretch/>
        </p:blipFill>
        <p:spPr>
          <a:xfrm>
            <a:off x="1219320" y="3859200"/>
            <a:ext cx="2693880" cy="2160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2">
            <a:hlinkClick r:id="rId5" action="ppaction://hlinksldjump"/>
          </p:cNvPr>
          <p:cNvSpPr/>
          <p:nvPr/>
        </p:nvSpPr>
        <p:spPr>
          <a:xfrm>
            <a:off x="6629400" y="61722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Quiz Yourself!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320" y="1600200"/>
          <a:ext cx="7696080" cy="419256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960560"/>
                <a:gridCol w="1809720"/>
              </a:tblGrid>
              <a:tr h="193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rmor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mrade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ndured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rewell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iumphant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roop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victoriou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onus:  Which two words are </a:t>
                      </a: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synonyms</a:t>
                      </a: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22" descr="_x000b_armor-1.jpg                                                    00063C78_x000c_Macintosh HD                   BE95B27D: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1676520"/>
            <a:ext cx="1217520" cy="1371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86000" y="1744560"/>
            <a:ext cx="1523880" cy="1227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"/>
          <p:cNvPicPr/>
          <p:nvPr/>
        </p:nvPicPr>
        <p:blipFill>
          <a:blip r:embed="rId6"/>
          <a:stretch/>
        </p:blipFill>
        <p:spPr>
          <a:xfrm>
            <a:off x="4267080" y="1752480"/>
            <a:ext cx="127008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_x0012_TN_goodbye.GIF.gif                                             00063C78_x000c_Macintosh HD                   BE95B27D:"/>
          <p:cNvPicPr/>
          <p:nvPr/>
        </p:nvPicPr>
        <p:blipFill>
          <a:blip r:embed="rId7"/>
          <a:stretch/>
        </p:blipFill>
        <p:spPr>
          <a:xfrm>
            <a:off x="6400800" y="1676520"/>
            <a:ext cx="102564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7" descr="_x000c_trophy_c.pct                                                   000650EF_x000c_Macintosh HD                   BE95B27D:"/>
          <p:cNvPicPr/>
          <p:nvPr/>
        </p:nvPicPr>
        <p:blipFill>
          <a:blip r:embed="rId8"/>
          <a:stretch/>
        </p:blipFill>
        <p:spPr>
          <a:xfrm>
            <a:off x="228600" y="36576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_x000e_cheerboy_c.pct                                                 0006501C_x000c_Macintosh HD                   BE95B27D:"/>
          <p:cNvPicPr/>
          <p:nvPr/>
        </p:nvPicPr>
        <p:blipFill>
          <a:blip r:embed="rId9"/>
          <a:stretch/>
        </p:blipFill>
        <p:spPr>
          <a:xfrm>
            <a:off x="4114800" y="3684600"/>
            <a:ext cx="1752480" cy="14209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30">
            <a:hlinkClick r:id="" action="ppaction://hlinkshowjump?jump=endshow"/>
          </p:cNvPr>
          <p:cNvSpPr/>
          <p:nvPr/>
        </p:nvSpPr>
        <p:spPr>
          <a:xfrm>
            <a:off x="67816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41" name="AutoShape 40">
            <a:hlinkClick r:id="" action="ppaction://hlinkshowjump?jump=firstslide"/>
          </p:cNvPr>
          <p:cNvSpPr/>
          <p:nvPr/>
        </p:nvSpPr>
        <p:spPr>
          <a:xfrm>
            <a:off x="1522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pic>
        <p:nvPicPr>
          <p:cNvPr id="242" name="Picture 41" descr=""/>
          <p:cNvPicPr/>
          <p:nvPr/>
        </p:nvPicPr>
        <p:blipFill>
          <a:blip r:embed="rId10"/>
          <a:stretch/>
        </p:blipFill>
        <p:spPr>
          <a:xfrm>
            <a:off x="2209680" y="3657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02:51:38Z</dcterms:created>
  <dc:creator>Tracey Ortiz-Naney</dc:creator>
  <dc:description/>
  <dc:language>en-US</dc:language>
  <cp:lastModifiedBy>AES</cp:lastModifiedBy>
  <dcterms:modified xsi:type="dcterms:W3CDTF">2010-09-13T15:30:38Z</dcterms:modified>
  <cp:revision>26</cp:revision>
  <dc:subject/>
  <dc:title>The Ballad of Mulan vocabulary</dc:title>
</cp:coreProperties>
</file>