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11.pct" ContentType="image/x-pict"/>
  <Override PartName="/ppt/media/image9.pct" ContentType="image/x-pict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0.pct" ContentType="image/x-pict"/>
  <Override PartName="/ppt/media/image1.pct" ContentType="image/x-pict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F30-8831-4D0D-8B1C-C382814A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0A64-FCDB-4815-8E6A-C7F1050C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973-AA81-4E54-9577-C76859CF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EA1-BCE5-453E-8047-43C0DF03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5EA8-8C32-4CD2-8872-FB666D14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1F83-A0A7-44D6-BC75-175197FD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E3A5-EDAA-4EA0-A175-C1FAED7A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35C5-8ADF-44B3-A968-FAB4207C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0E3F-611A-419F-8192-EC78C6C2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FE6A-0CF5-4AE8-B4A4-5D64F985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B4E9-C732-4638-9069-3E985002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78ED-A066-48C9-B8F9-C2E4CB18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1B59-AF43-4565-83AC-81164390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73AB-8931-48AE-9E2A-4CF02A66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3B89-872B-48CC-9003-ECD2B235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EE1E-DA70-4EE7-99F2-138BA8FB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E2C2-08D3-4581-9CBE-13EEBE8E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4D3-2C5A-422F-837B-E018507C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F23A-4F50-4772-B9C1-B1663B43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23E-F0FA-44F2-AAD5-15082FC2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6BB2-0D3C-49EF-9464-18E21E69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5DE8-C4C6-4AB7-A55D-9A79FDB6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FC9A-8AFB-498D-9561-349049EB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29A-B3DB-4903-BD41-89828CA9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6B26-0662-403E-9DCC-FFAC33C1A6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C356-3A2B-482F-8596-6624B7D8DFEF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ct"/><Relationship Id="rId5" Type="http://schemas.openxmlformats.org/officeDocument/2006/relationships/image" Target="../media/image10.pct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pct"/><Relationship Id="rId4" Type="http://schemas.openxmlformats.org/officeDocument/2006/relationships/image" Target="../media/image12.pct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9.xml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" Target="slide3.xml"/><Relationship Id="rId5" Type="http://schemas.openxmlformats.org/officeDocument/2006/relationships/image" Target="../media/image9.pct"/><Relationship Id="rId6" Type="http://schemas.openxmlformats.org/officeDocument/2006/relationships/image" Target="../media/image12.pct"/><Relationship Id="rId7" Type="http://schemas.openxmlformats.org/officeDocument/2006/relationships/image" Target="../media/image13.png"/><Relationship Id="rId8" Type="http://schemas.openxmlformats.org/officeDocument/2006/relationships/image" Target="../media/image15.jpeg"/><Relationship Id="rId9" Type="http://schemas.openxmlformats.org/officeDocument/2006/relationships/image" Target="../media/image21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d47d"/>
                </a:solidFill>
                <a:uFillTx/>
                <a:latin typeface="Arial"/>
              </a:rPr>
              <a:t>The Ballad of Mulan</a:t>
            </a:r>
            <a:br>
              <a:rPr sz="44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5562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me 1, Story 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Key Vocabular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_x0010_gr3_th1_sel2.jpg                                               00063C78_x000c_Macintosh HD                   BE95B27D:"/>
          <p:cNvPicPr/>
          <p:nvPr/>
        </p:nvPicPr>
        <p:blipFill>
          <a:blip r:embed="rId1"/>
          <a:stretch/>
        </p:blipFill>
        <p:spPr>
          <a:xfrm>
            <a:off x="457200" y="1676520"/>
            <a:ext cx="2998800" cy="388620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5">
            <a:hlinkClick r:id="rId2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The synonyms are…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3922200"/>
            <a:ext cx="738648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Triumphant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Victoriou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5" name="Picture 6" descr="_x000c_trophy_c.pct                                                   000650EF_x000c_Macintosh HD                   BE95B27D:"/>
          <p:cNvPicPr/>
          <p:nvPr/>
        </p:nvPicPr>
        <p:blipFill>
          <a:blip r:embed="rId1"/>
          <a:stretch/>
        </p:blipFill>
        <p:spPr>
          <a:xfrm>
            <a:off x="609480" y="1598760"/>
            <a:ext cx="2438640" cy="2171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_x000f_cheergirl_c.pct                                                0006501C_x000c_Macintosh HD                   BE95B27D:"/>
          <p:cNvPicPr/>
          <p:nvPr/>
        </p:nvPicPr>
        <p:blipFill>
          <a:blip r:embed="rId2"/>
          <a:stretch/>
        </p:blipFill>
        <p:spPr>
          <a:xfrm>
            <a:off x="4960800" y="1598760"/>
            <a:ext cx="2430720" cy="21715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8"/>
          <p:cNvSpPr/>
          <p:nvPr/>
        </p:nvSpPr>
        <p:spPr>
          <a:xfrm>
            <a:off x="152280" y="609588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48" name="AutoShape 9">
            <a:hlinkClick r:id="" action="ppaction://hlinkshowjump?jump=endshow"/>
          </p:cNvPr>
          <p:cNvSpPr/>
          <p:nvPr/>
        </p:nvSpPr>
        <p:spPr>
          <a:xfrm>
            <a:off x="6781680" y="60958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49" name="AutoShape 10">
            <a:hlinkClick r:id="" action="ppaction://hlinkshowjump?jump=firstslide"/>
          </p:cNvPr>
          <p:cNvSpPr/>
          <p:nvPr/>
        </p:nvSpPr>
        <p:spPr>
          <a:xfrm>
            <a:off x="358128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armor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029120" y="1066680"/>
            <a:ext cx="3620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ody covering, often of metal, worn for protection in battle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t dawn Mulan dressed in her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armor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and bid a sad farewell to her father, mother, sister, and brother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6" descr="_x000b_armor-1.jpg                                                    00063C78_x000c_Macintosh HD                   BE95B27D:"/>
          <p:cNvPicPr/>
          <p:nvPr/>
        </p:nvPicPr>
        <p:blipFill>
          <a:blip r:embed="rId3"/>
          <a:stretch/>
        </p:blipFill>
        <p:spPr>
          <a:xfrm>
            <a:off x="338040" y="1371600"/>
            <a:ext cx="3527640" cy="45720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9">
            <a:hlinkClick r:id="rId4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omrade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panions who share one’s activities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er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comrades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ere astonished and amaze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6" descr="_x000f_girltroop_c.pct                                                0006501C_x000c_Macintosh HD                   BE95B27D:"/>
          <p:cNvPicPr/>
          <p:nvPr/>
        </p:nvPicPr>
        <p:blipFill>
          <a:blip r:embed="rId3"/>
          <a:stretch/>
        </p:blipFill>
        <p:spPr>
          <a:xfrm>
            <a:off x="3962520" y="2776680"/>
            <a:ext cx="3313080" cy="1414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"/>
          <p:cNvPicPr/>
          <p:nvPr/>
        </p:nvPicPr>
        <p:blipFill>
          <a:blip r:embed="rId4"/>
          <a:stretch/>
        </p:blipFill>
        <p:spPr>
          <a:xfrm>
            <a:off x="5029200" y="609480"/>
            <a:ext cx="2511360" cy="2022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"/>
          <p:cNvPicPr/>
          <p:nvPr/>
        </p:nvPicPr>
        <p:blipFill>
          <a:blip r:embed="rId5"/>
          <a:stretch/>
        </p:blipFill>
        <p:spPr>
          <a:xfrm>
            <a:off x="3276720" y="4343400"/>
            <a:ext cx="2438280" cy="201456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>
            <a:hlinkClick r:id="rId6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endured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ut up with or lasted through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ights at the camp were harsh and cold, but Mulan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endured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every hardship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3"/>
          <a:stretch/>
        </p:blipFill>
        <p:spPr>
          <a:xfrm>
            <a:off x="304920" y="1219320"/>
            <a:ext cx="1852560" cy="2743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4"/>
          <a:stretch/>
        </p:blipFill>
        <p:spPr>
          <a:xfrm>
            <a:off x="1828800" y="3429000"/>
            <a:ext cx="23385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7">
            <a:hlinkClick r:id="rId5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farewell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16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ood-by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t dawn Mulan dressed in her armor and bid a sad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farewell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to her father, mother, sister, and broth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9" descr="_x0012_TN_goodbye.GIF.gif                                             00063C78_x000c_Macintosh HD                   BE95B27D:"/>
          <p:cNvPicPr/>
          <p:nvPr/>
        </p:nvPicPr>
        <p:blipFill>
          <a:blip r:embed="rId3"/>
          <a:stretch/>
        </p:blipFill>
        <p:spPr>
          <a:xfrm>
            <a:off x="5715000" y="3429000"/>
            <a:ext cx="1881360" cy="2514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_x000e_cominghome.gif                                                 00063C78_x000c_Macintosh HD                   BE95B27D:"/>
          <p:cNvPicPr/>
          <p:nvPr/>
        </p:nvPicPr>
        <p:blipFill>
          <a:blip r:embed="rId4"/>
          <a:stretch/>
        </p:blipFill>
        <p:spPr>
          <a:xfrm>
            <a:off x="3809880" y="609480"/>
            <a:ext cx="257832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11">
            <a:hlinkClick r:id="rId5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triumphan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032000" y="1598400"/>
            <a:ext cx="36176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uccessfu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fter ten years, she returned as a great general,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triumphant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and victorious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10" descr="_x000c_trophy_c.pct                                                   000650EF_x000c_Macintosh HD                   BE95B27D:"/>
          <p:cNvPicPr/>
          <p:nvPr/>
        </p:nvPicPr>
        <p:blipFill>
          <a:blip r:embed="rId3"/>
          <a:stretch/>
        </p:blipFill>
        <p:spPr>
          <a:xfrm>
            <a:off x="152280" y="1295280"/>
            <a:ext cx="1600200" cy="1425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_x0010_100percent_c.pct                                               000650EF_x000c_Macintosh HD                   BE95B27D:"/>
          <p:cNvPicPr/>
          <p:nvPr/>
        </p:nvPicPr>
        <p:blipFill>
          <a:blip r:embed="rId4"/>
          <a:stretch/>
        </p:blipFill>
        <p:spPr>
          <a:xfrm>
            <a:off x="3200400" y="520056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_x0011_yes-kid-color.gif                                              00063C78_x000c_Macintosh HD                   BE95B27D:"/>
          <p:cNvPicPr/>
          <p:nvPr/>
        </p:nvPicPr>
        <p:blipFill>
          <a:blip r:embed="rId5"/>
          <a:stretch/>
        </p:blipFill>
        <p:spPr>
          <a:xfrm>
            <a:off x="1752480" y="2209680"/>
            <a:ext cx="1492200" cy="36086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13">
            <a:hlinkClick r:id="rId6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troop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36165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oldi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Emperor is calling for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troops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AutoShape 15">
            <a:hlinkClick r:id="rId3" action="ppaction://hlinksldjump"/>
          </p:cNvPr>
          <p:cNvSpPr/>
          <p:nvPr/>
        </p:nvSpPr>
        <p:spPr>
          <a:xfrm>
            <a:off x="6629400" y="609588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pic>
        <p:nvPicPr>
          <p:cNvPr id="225" name="Picture 17" descr=""/>
          <p:cNvPicPr/>
          <p:nvPr/>
        </p:nvPicPr>
        <p:blipFill>
          <a:blip r:embed="rId4"/>
          <a:stretch/>
        </p:blipFill>
        <p:spPr>
          <a:xfrm>
            <a:off x="4952880" y="1143000"/>
            <a:ext cx="2621160" cy="2620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"/>
          <p:cNvPicPr/>
          <p:nvPr/>
        </p:nvPicPr>
        <p:blipFill>
          <a:blip r:embed="rId5"/>
          <a:stretch/>
        </p:blipFill>
        <p:spPr>
          <a:xfrm>
            <a:off x="3200400" y="3581280"/>
            <a:ext cx="27306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victoriou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ving won by defeating anoth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fter ten years, she returned as a great general, triumphant and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victorious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Picture 10" descr="_x000f_cheergirl_c.pct                                                0006501C_x000c_Macintosh HD                   BE95B27D:"/>
          <p:cNvPicPr/>
          <p:nvPr/>
        </p:nvPicPr>
        <p:blipFill>
          <a:blip r:embed="rId3"/>
          <a:stretch/>
        </p:blipFill>
        <p:spPr>
          <a:xfrm>
            <a:off x="117360" y="1676520"/>
            <a:ext cx="2473560" cy="2209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_x000e_cheerboy_c.pct                                                 0006501C_x000c_Macintosh HD                   BE95B27D:"/>
          <p:cNvPicPr/>
          <p:nvPr/>
        </p:nvPicPr>
        <p:blipFill>
          <a:blip r:embed="rId4"/>
          <a:stretch/>
        </p:blipFill>
        <p:spPr>
          <a:xfrm>
            <a:off x="1219320" y="3859200"/>
            <a:ext cx="2693880" cy="216072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12">
            <a:hlinkClick r:id="rId5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Quiz Yourself!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76320" y="1600200"/>
          <a:ext cx="7696080" cy="4192560"/>
        </p:xfrm>
        <a:graphic>
          <a:graphicData uri="http://schemas.openxmlformats.org/drawingml/2006/table">
            <a:tbl>
              <a:tblPr/>
              <a:tblGrid>
                <a:gridCol w="1962000"/>
                <a:gridCol w="1963800"/>
                <a:gridCol w="1960560"/>
                <a:gridCol w="1809720"/>
              </a:tblGrid>
              <a:tr h="193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armor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omrades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ndured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arewell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226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riumphant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roops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victorious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Bonus:  Which two words are </a:t>
                      </a: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synonyms</a:t>
                      </a: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4" name="Picture 22" descr="_x000b_armor-1.jpg                                                    00063C78_x000c_Macintosh HD                   BE95B27D: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57200" y="1676520"/>
            <a:ext cx="1217520" cy="1371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0" y="1744560"/>
            <a:ext cx="1523880" cy="1227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4" descr=""/>
          <p:cNvPicPr/>
          <p:nvPr/>
        </p:nvPicPr>
        <p:blipFill>
          <a:blip r:embed="rId6"/>
          <a:stretch/>
        </p:blipFill>
        <p:spPr>
          <a:xfrm>
            <a:off x="4267080" y="1752480"/>
            <a:ext cx="1270080" cy="1447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5" descr="_x0012_TN_goodbye.GIF.gif                                             00063C78_x000c_Macintosh HD                   BE95B27D:"/>
          <p:cNvPicPr/>
          <p:nvPr/>
        </p:nvPicPr>
        <p:blipFill>
          <a:blip r:embed="rId7"/>
          <a:stretch/>
        </p:blipFill>
        <p:spPr>
          <a:xfrm>
            <a:off x="6400800" y="1676520"/>
            <a:ext cx="1025640" cy="1371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7" descr="_x000c_trophy_c.pct                                                   000650EF_x000c_Macintosh HD                   BE95B27D:"/>
          <p:cNvPicPr/>
          <p:nvPr/>
        </p:nvPicPr>
        <p:blipFill>
          <a:blip r:embed="rId8"/>
          <a:stretch/>
        </p:blipFill>
        <p:spPr>
          <a:xfrm>
            <a:off x="228600" y="3657600"/>
            <a:ext cx="1676520" cy="1494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9" descr="_x000e_cheerboy_c.pct                                                 0006501C_x000c_Macintosh HD                   BE95B27D:"/>
          <p:cNvPicPr/>
          <p:nvPr/>
        </p:nvPicPr>
        <p:blipFill>
          <a:blip r:embed="rId9"/>
          <a:stretch/>
        </p:blipFill>
        <p:spPr>
          <a:xfrm>
            <a:off x="4114800" y="3684600"/>
            <a:ext cx="1752480" cy="142092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30">
            <a:hlinkClick r:id="" action="ppaction://hlinkshowjump?jump=endshow"/>
          </p:cNvPr>
          <p:cNvSpPr/>
          <p:nvPr/>
        </p:nvSpPr>
        <p:spPr>
          <a:xfrm>
            <a:off x="6781680" y="60958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41" name="AutoShape 40">
            <a:hlinkClick r:id="" action="ppaction://hlinkshowjump?jump=firstslide"/>
          </p:cNvPr>
          <p:cNvSpPr/>
          <p:nvPr/>
        </p:nvSpPr>
        <p:spPr>
          <a:xfrm>
            <a:off x="1522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pic>
        <p:nvPicPr>
          <p:cNvPr id="242" name="Picture 41" descr=""/>
          <p:cNvPicPr/>
          <p:nvPr/>
        </p:nvPicPr>
        <p:blipFill>
          <a:blip r:embed="rId10"/>
          <a:stretch/>
        </p:blipFill>
        <p:spPr>
          <a:xfrm>
            <a:off x="2209680" y="3657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2:51:38Z</dcterms:created>
  <dc:creator>Tracey Ortiz-Naney</dc:creator>
  <dc:description/>
  <dc:language>en-US</dc:language>
  <cp:lastModifiedBy>AES</cp:lastModifiedBy>
  <dcterms:modified xsi:type="dcterms:W3CDTF">2010-09-13T15:30:38Z</dcterms:modified>
  <cp:revision>26</cp:revision>
  <dc:subject/>
  <dc:title>The Ballad of Mulan vocabulary</dc:title>
</cp:coreProperties>
</file>