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E017-8996-436D-8049-9E839F7AC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5B01-DD5B-43D3-9AA4-09A707659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4153-1F2B-45A2-B458-C62AFE28C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8957-58F4-48A9-9441-98EC6DCED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DD22-706A-4E47-B2DC-EE5691F71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91BD-933C-4BB9-919A-ED18921E3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6278-7F28-4B34-979E-F9C7A0E54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682D-EB28-434F-97B7-B43494A50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5C9E-1EBB-4774-8E1C-76ADF72FE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B128-A4BB-481C-A8E8-487C17E75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DEF6-3E5C-4467-8FF5-3FEC2A8B5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FC89-1C56-4800-8497-6369677A0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BC288-F668-4CE0-A5F6-8C1732B534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3ebf1"/>
                </a:solidFill>
                <a:uFillTx/>
                <a:latin typeface="Arial"/>
              </a:rPr>
              <a:t>The Ballad of Mulan</a:t>
            </a: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pelling Words</a:t>
            </a: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952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ughton-Mifflin Re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ade 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me 1:  Off to Adventure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" name="Picture 5" descr="_x0010_gr3_th1_sel2.jpg                                               00063C78_x000c_Macintosh HD                   BE95B27D:"/>
          <p:cNvPicPr/>
          <p:nvPr/>
        </p:nvPicPr>
        <p:blipFill>
          <a:blip r:embed="rId1"/>
          <a:stretch/>
        </p:blipFill>
        <p:spPr>
          <a:xfrm>
            <a:off x="3606840" y="2266920"/>
            <a:ext cx="1955880" cy="2533680"/>
          </a:xfrm>
          <a:prstGeom prst="rect">
            <a:avLst/>
          </a:prstGeom>
          <a:ln w="0">
            <a:noFill/>
          </a:ln>
        </p:spPr>
      </p:pic>
      <p:sp>
        <p:nvSpPr>
          <p:cNvPr id="44" name="TextBox 6"/>
          <p:cNvSpPr/>
          <p:nvPr/>
        </p:nvSpPr>
        <p:spPr>
          <a:xfrm>
            <a:off x="8539200" y="4108320"/>
            <a:ext cx="1839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e3ebf1"/>
                </a:solidFill>
                <a:latin typeface="Arial"/>
              </a:rPr>
              <a:t>hunt</a:t>
            </a:r>
            <a:endParaRPr b="0" lang="en-US" sz="8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elp me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hunt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for my dog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0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e3ebf1"/>
                </a:solidFill>
                <a:latin typeface="Arial"/>
              </a:rPr>
              <a:t>crop</a:t>
            </a:r>
            <a:endParaRPr b="0" lang="en-US" sz="8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t was a good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crop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of corn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0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e3ebf1"/>
                </a:solidFill>
                <a:latin typeface="Arial"/>
              </a:rPr>
              <a:t>shut</a:t>
            </a:r>
            <a:endParaRPr b="0" lang="en-US" sz="8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id you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shut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the door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0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66ccff"/>
                </a:solidFill>
                <a:latin typeface="Arial"/>
              </a:rPr>
              <a:t>won</a:t>
            </a:r>
            <a:endParaRPr b="0" lang="en-US" sz="8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ur team </a:t>
            </a:r>
            <a:r>
              <a:rPr b="0" lang="en-US" sz="4400" spc="-1" strike="noStrike" u="sng">
                <a:solidFill>
                  <a:srgbClr val="66ccff"/>
                </a:solidFill>
                <a:uFillTx/>
                <a:latin typeface="Arial"/>
              </a:rPr>
              <a:t>won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the game.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0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0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e3ebf1"/>
                </a:solidFill>
                <a:latin typeface="Arial"/>
              </a:rPr>
              <a:t>hop</a:t>
            </a:r>
            <a:endParaRPr b="0" lang="en-US" sz="8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atch the bunny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hop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0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e3ebf1"/>
                </a:solidFill>
                <a:latin typeface="Arial"/>
              </a:rPr>
              <a:t>much</a:t>
            </a:r>
            <a:endParaRPr b="0" lang="en-US" sz="8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he ate too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much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ice cream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0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0e500"/>
                </a:solidFill>
                <a:latin typeface="Arial"/>
              </a:rPr>
              <a:t>dodge</a:t>
            </a:r>
            <a:endParaRPr b="0" lang="en-US" sz="8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ed can </a:t>
            </a:r>
            <a:r>
              <a:rPr b="0" lang="en-US" sz="4400" spc="-1" strike="noStrike" u="sng">
                <a:solidFill>
                  <a:srgbClr val="f0e500"/>
                </a:solidFill>
                <a:uFillTx/>
                <a:latin typeface="Arial"/>
              </a:rPr>
              <a:t>dodge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every ball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0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0e500"/>
                </a:solidFill>
                <a:latin typeface="Arial"/>
              </a:rPr>
              <a:t>dusk</a:t>
            </a:r>
            <a:endParaRPr b="0" lang="en-US" sz="8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lights came on at </a:t>
            </a:r>
            <a:r>
              <a:rPr b="0" lang="en-US" sz="4400" spc="-1" strike="noStrike" u="sng">
                <a:solidFill>
                  <a:srgbClr val="f0e500"/>
                </a:solidFill>
                <a:uFillTx/>
                <a:latin typeface="Arial"/>
              </a:rPr>
              <a:t>dusk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0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3ebf1"/>
                </a:solidFill>
                <a:uFillTx/>
                <a:latin typeface="Arial"/>
              </a:rPr>
              <a:t>The Ballad of Mulan</a:t>
            </a: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pelling Words</a:t>
            </a: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09680" y="1981080"/>
            <a:ext cx="3657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uc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o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100000"/>
              </a:lnSpc>
              <a:spcBef>
                <a:spcPts val="700"/>
              </a:spcBef>
              <a:buClr>
                <a:srgbClr val="66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Arial"/>
              </a:rPr>
              <a:t>do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c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4952880" y="1981080"/>
            <a:ext cx="36576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9.     hu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0.   cro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1.   sh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Arial"/>
              </a:rPr>
              <a:t>12.   w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3.   ho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4.   mu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e500"/>
                </a:solidFill>
                <a:latin typeface="Arial"/>
              </a:rPr>
              <a:t>15.   dod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e500"/>
                </a:solidFill>
                <a:latin typeface="Arial"/>
              </a:rPr>
              <a:t>16.   dus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e3ebf1"/>
                </a:solidFill>
                <a:latin typeface="Arial"/>
              </a:rPr>
              <a:t>pond</a:t>
            </a:r>
            <a:endParaRPr b="0" lang="en-US" sz="8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re are fish in the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pond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0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e3ebf1"/>
                </a:solidFill>
                <a:latin typeface="Arial"/>
              </a:rPr>
              <a:t>luck</a:t>
            </a:r>
            <a:endParaRPr b="0" lang="en-US" sz="8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Jamal has good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luck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0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e3ebf1"/>
                </a:solidFill>
                <a:latin typeface="Arial"/>
              </a:rPr>
              <a:t>drop</a:t>
            </a:r>
            <a:endParaRPr b="0" lang="en-US" sz="8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o not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drop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the dish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0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e3ebf1"/>
                </a:solidFill>
                <a:latin typeface="Arial"/>
              </a:rPr>
              <a:t>lot</a:t>
            </a:r>
            <a:endParaRPr b="0" lang="en-US" sz="8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 ate a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lot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of fish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0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e3ebf1"/>
                </a:solidFill>
                <a:latin typeface="Arial"/>
              </a:rPr>
              <a:t>rub</a:t>
            </a:r>
            <a:endParaRPr b="0" lang="en-US" sz="8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om will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rub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my neck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0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66ccff"/>
                </a:solidFill>
                <a:latin typeface="Arial"/>
              </a:rPr>
              <a:t>does</a:t>
            </a:r>
            <a:endParaRPr b="0" lang="en-US" sz="8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ria </a:t>
            </a:r>
            <a:r>
              <a:rPr b="0" lang="en-US" sz="4400" spc="-1" strike="noStrike" u="sng">
                <a:solidFill>
                  <a:srgbClr val="66ccff"/>
                </a:solidFill>
                <a:uFillTx/>
                <a:latin typeface="Arial"/>
              </a:rPr>
              <a:t>does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everything well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0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e3ebf1"/>
                </a:solidFill>
                <a:latin typeface="Arial"/>
              </a:rPr>
              <a:t>drum</a:t>
            </a:r>
            <a:endParaRPr b="0" lang="en-US" sz="8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Jack beat the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drum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0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e3ebf1"/>
                </a:solidFill>
                <a:latin typeface="Arial"/>
              </a:rPr>
              <a:t>sock</a:t>
            </a:r>
            <a:endParaRPr b="0" lang="en-US" sz="8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 put my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sock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on my foot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0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5T03:23:46Z</dcterms:created>
  <dc:creator>Tracey Ortiz-Naney</dc:creator>
  <dc:description/>
  <dc:language>en-US</dc:language>
  <cp:lastModifiedBy>AES</cp:lastModifiedBy>
  <dcterms:modified xsi:type="dcterms:W3CDTF">2010-09-13T15:32:03Z</dcterms:modified>
  <cp:revision>14</cp:revision>
  <dc:subject/>
  <dc:title>Lost and Found  Spelling Words</dc:title>
</cp:coreProperties>
</file>