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E642-1D67-4197-9759-2DF48330D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A595-75CC-44A6-BC1A-6FEB3CB5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0C54-99F8-476C-AF5F-ECE896FF7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B59C-AD60-4E4B-A4DA-E963C939F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80BB-2E3C-4AFE-8DC3-2B4BABCC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FEC5-2371-4BA7-AAE6-5C37C228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8EFB-783D-42C2-90FB-425173AD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9A99-34EE-47C5-A09E-6D007C8F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76FA-1148-4DBF-A105-CC1BA358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EABE-5D1C-4BA7-916F-6887837E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337A-3BC8-4BD6-8407-22E8FE2A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6E7B-B9A8-45DB-B197-C63BF255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F7BC-BE17-4997-9A8A-B5F78A401F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3ebf1"/>
                </a:solidFill>
                <a:uFillTx/>
                <a:latin typeface="Arial"/>
              </a:rPr>
              <a:t>The Ballad of Mulan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pelling Words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ughton-Mifflin Re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de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me 1:  Off to Adventur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Picture 5" descr="_x0010_gr3_th1_sel2.jpg                                               00063C78_x000c_Macintosh HD                   BE95B27D:"/>
          <p:cNvPicPr/>
          <p:nvPr/>
        </p:nvPicPr>
        <p:blipFill>
          <a:blip r:embed="rId1"/>
          <a:stretch/>
        </p:blipFill>
        <p:spPr>
          <a:xfrm>
            <a:off x="3606840" y="2266920"/>
            <a:ext cx="1955880" cy="253368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8539200" y="4108320"/>
            <a:ext cx="18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hunt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lp me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hun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for my dog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crop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t was a good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rop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of cor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shut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d you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shu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the doo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ccff"/>
                </a:solidFill>
                <a:latin typeface="Arial"/>
              </a:rPr>
              <a:t>won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ur team 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"/>
              </a:rPr>
              <a:t>wo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the game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hop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tch the bunny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hop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much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he ate too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muc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ice cream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0e500"/>
                </a:solidFill>
                <a:latin typeface="Arial"/>
              </a:rPr>
              <a:t>dodge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d can </a:t>
            </a:r>
            <a:r>
              <a:rPr b="0" lang="en-US" sz="4400" spc="-1" strike="noStrike" u="sng">
                <a:solidFill>
                  <a:srgbClr val="f0e500"/>
                </a:solidFill>
                <a:uFillTx/>
                <a:latin typeface="Arial"/>
              </a:rPr>
              <a:t>dodg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every ball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0e500"/>
                </a:solidFill>
                <a:latin typeface="Arial"/>
              </a:rPr>
              <a:t>dusk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lights came on at </a:t>
            </a:r>
            <a:r>
              <a:rPr b="0" lang="en-US" sz="4400" spc="-1" strike="noStrike" u="sng">
                <a:solidFill>
                  <a:srgbClr val="f0e500"/>
                </a:solidFill>
                <a:uFillTx/>
                <a:latin typeface="Arial"/>
              </a:rPr>
              <a:t>dusk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3ebf1"/>
                </a:solidFill>
                <a:uFillTx/>
                <a:latin typeface="Arial"/>
              </a:rPr>
              <a:t>The Ballad of Mulan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pelling Words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u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Arial"/>
              </a:rPr>
              <a:t>do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952880" y="1981080"/>
            <a:ext cx="36576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.     h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.   cr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.   sh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Arial"/>
              </a:rPr>
              <a:t>12.   w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3.   h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4.   mu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Arial"/>
              </a:rPr>
              <a:t>15.   do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Arial"/>
              </a:rPr>
              <a:t>16.   du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pond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re are fish in the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ond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luck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amal has good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luck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drop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 not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drop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the dish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lot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 ate a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lo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of fish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rub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m will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rub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my neck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ccff"/>
                </a:solidFill>
                <a:latin typeface="Arial"/>
              </a:rPr>
              <a:t>does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ria 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"/>
              </a:rPr>
              <a:t>do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everything well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drum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ack beat the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drum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sock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 put my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sock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on my foo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5T03:23:46Z</dcterms:created>
  <dc:creator>Tracey Ortiz-Naney</dc:creator>
  <dc:description/>
  <dc:language>en-US</dc:language>
  <cp:lastModifiedBy>AES</cp:lastModifiedBy>
  <dcterms:modified xsi:type="dcterms:W3CDTF">2010-09-13T15:32:03Z</dcterms:modified>
  <cp:revision>14</cp:revision>
  <dc:subject/>
  <dc:title>Lost and Found  Spelling Words</dc:title>
</cp:coreProperties>
</file>