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321-ABA9-4AEA-8DE0-FDFDFC58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86A-515C-4212-BED6-A7BEF5BE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2C9-F4B8-4E4E-8445-C2A68343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35F-6B67-4B10-8165-4993CE7E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E7F-C23F-46E0-9FBC-C25BCB65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8C3-A829-4B0D-BD39-A39C8020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2268-E401-47D9-871F-76085B53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131-09BB-43D8-9AFA-1D400B38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4C54-DB3B-4153-8E31-AA26C280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3D5-A1CF-4A04-9DA4-877ED00B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C2F-364D-43CF-B68D-8FEB39A2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0CE-7A48-4B6D-A0F4-8B22948A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CC8E-BC6F-4ED3-96C7-E262CE104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The Ballad of Mulan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ghton-Mifflin R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e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e 1:  Off to Adven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5" descr="_x0010_gr3_th1_sel2.jpg                                               00063C78_x000c_Macintosh HD                   BE95B27D:"/>
          <p:cNvPicPr/>
          <p:nvPr/>
        </p:nvPicPr>
        <p:blipFill>
          <a:blip r:embed="rId1"/>
          <a:stretch/>
        </p:blipFill>
        <p:spPr>
          <a:xfrm>
            <a:off x="3606840" y="2266920"/>
            <a:ext cx="1955880" cy="2533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8539200" y="410832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hun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lp m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u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my do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cr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was a goo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cor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shu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d you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hu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doo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ccff"/>
                </a:solidFill>
                <a:latin typeface="Arial"/>
              </a:rPr>
              <a:t>won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r team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w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game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h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ch the bunn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much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e ate too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uc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ce crea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0e500"/>
                </a:solidFill>
                <a:latin typeface="Arial"/>
              </a:rPr>
              <a:t>dodge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d can </a:t>
            </a:r>
            <a:r>
              <a:rPr b="0" lang="en-US" sz="4400" spc="-1" strike="noStrike" u="sng">
                <a:solidFill>
                  <a:srgbClr val="f0e500"/>
                </a:solidFill>
                <a:uFillTx/>
                <a:latin typeface="Arial"/>
              </a:rPr>
              <a:t>dodg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every bal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0e500"/>
                </a:solidFill>
                <a:latin typeface="Arial"/>
              </a:rPr>
              <a:t>dus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ights came on at </a:t>
            </a:r>
            <a:r>
              <a:rPr b="0" lang="en-US" sz="4400" spc="-1" strike="noStrike" u="sng">
                <a:solidFill>
                  <a:srgbClr val="f0e500"/>
                </a:solidFill>
                <a:uFillTx/>
                <a:latin typeface="Arial"/>
              </a:rPr>
              <a:t>dus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The Ballad of Mulan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952880" y="1981080"/>
            <a:ext cx="3657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   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  c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  sh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12.   w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.   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.  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15.   do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16.   du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pond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fish in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ond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luc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mal has goo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uc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dr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 not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dis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lo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ate a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o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fis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rub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m will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b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y ne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ccff"/>
                </a:solidFill>
                <a:latin typeface="Arial"/>
              </a:rPr>
              <a:t>does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ia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do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everything wel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drum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ck beat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ru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soc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put m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c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n my fo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03:23:46Z</dcterms:created>
  <dc:creator>Tracey Ortiz-Naney</dc:creator>
  <dc:description/>
  <dc:language>en-US</dc:language>
  <cp:lastModifiedBy>AES</cp:lastModifiedBy>
  <dcterms:modified xsi:type="dcterms:W3CDTF">2010-09-13T15:32:03Z</dcterms:modified>
  <cp:revision>14</cp:revision>
  <dc:subject/>
  <dc:title>Lost and Found  Spelling Words</dc:title>
</cp:coreProperties>
</file>