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937-09DC-4B2B-953B-EB8686C4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78F-B23B-4F5E-A0C5-64AFEB0B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B96-70A4-42E6-9417-5BF8BB8E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4FE-F8EA-48E8-A9BC-F4098B06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880-5E74-4A03-B2FB-D817E935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8F3-1BB8-42FE-94E8-B5E9011F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162-8BD4-4835-B398-D0438C25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752-90C6-4627-88CD-0808B5C6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41D-4D0C-4ED6-96F9-3D9B5A95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AB9-752D-4B1D-A8A5-9354DC0C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2A6-B9DF-4627-9D7B-B31AE812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265-A392-41AF-A5B1-B36618E8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605F-E52F-4431-8E06-A29DAA685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ghton-Mifflin 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 1:  Off to Adven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5" descr="_x0010_gr3_th1_sel2.jpg                                               00063C78_x000c_Macintosh HD                   BE95B27D:"/>
          <p:cNvPicPr/>
          <p:nvPr/>
        </p:nvPicPr>
        <p:blipFill>
          <a:blip r:embed="rId1"/>
          <a:stretch/>
        </p:blipFill>
        <p:spPr>
          <a:xfrm>
            <a:off x="3606840" y="2266920"/>
            <a:ext cx="1955880" cy="253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8539200" y="41083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un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lp m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u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my do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c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as a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cor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hu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hu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oo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won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team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w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gam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 the bunn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much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e ate too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u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ce crea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odge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d can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od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 ba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us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ghts came on at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us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9528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  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  c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 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12.   w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  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 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5.   do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6.   du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pond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fish in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ond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u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mal has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u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no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o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ate 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o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f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rub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m wi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y ne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ia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do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thing we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um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ck beat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u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o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put m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my fo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03:23:46Z</dcterms:created>
  <dc:creator>Tracey Ortiz-Naney</dc:creator>
  <dc:description/>
  <dc:language>en-US</dc:language>
  <cp:lastModifiedBy>AES</cp:lastModifiedBy>
  <dcterms:modified xsi:type="dcterms:W3CDTF">2010-09-13T15:32:03Z</dcterms:modified>
  <cp:revision>14</cp:revision>
  <dc:subject/>
  <dc:title>Lost and Found  Spelling Words</dc:title>
</cp:coreProperties>
</file>